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FD4-E774-47E4-AE24-97771CDB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A08-CF54-4452-9148-05F52BA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9DA-B818-4F98-BCA0-B52C6519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E06-1802-4798-B20C-EFFD6F21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A0E5-3DD1-4C2D-BA73-F5B09E7F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5497-39FC-4130-B2C1-5CE7289C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332E-E779-417E-BD2B-CA0A610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59B5-FA4E-4891-B64C-D4542251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24BD-BA74-4A36-B428-6C56DFB9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2FD4-57C0-4611-AF68-07D01C58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19B-BD49-4109-A985-78E6DA69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BB6-F9FB-4384-A42E-D0B980D2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8241-C219-4816-8443-AF2AD8D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A3FB-8A07-48CA-A334-FA97C682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B2FF-11A5-4598-B9CA-846CD568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E1BE-527A-4AE8-A37B-4CBF2AB9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17D2-56EE-4DDD-A52B-2C8BBEEE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650-9E54-426E-BBC7-C35C13D8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170-6903-49D9-901C-B126BF1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0B1-4A5C-49BC-B3D1-71F26E23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49B-10D7-45B9-9359-412649DE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F93-9398-42C2-909D-C17F48F8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988-F26D-4039-8C8D-0C8D299C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DD1-70F9-498C-AD33-8F05887B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1FD8-6521-4A79-A1F7-E667504384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7A6C-2420-4BDD-8F78-53C5CF0A63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Image:Genghis_Khan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d/Onon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6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Pastori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ople from Mongolia.  Organized into cla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map"/>
          <p:cNvPicPr/>
          <p:nvPr/>
        </p:nvPicPr>
        <p:blipFill>
          <a:blip r:embed="rId1"/>
          <a:stretch/>
        </p:blipFill>
        <p:spPr>
          <a:xfrm>
            <a:off x="457200" y="3086280"/>
            <a:ext cx="5410080" cy="377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72200" y="4191120"/>
            <a:ext cx="260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ujin – unified the Mongols and in 1206 elect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enghis Kh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trong rul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8" descr="200px-Genghis_Kh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57200"/>
            <a:ext cx="2257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llap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o much money spent on conqu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corrup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asant overthrew government and established Ming Dyna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 Empi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mongol"/>
          <p:cNvPicPr/>
          <p:nvPr/>
        </p:nvPicPr>
        <p:blipFill>
          <a:blip r:embed="rId1"/>
          <a:stretch/>
        </p:blipFill>
        <p:spPr>
          <a:xfrm>
            <a:off x="533520" y="1752480"/>
            <a:ext cx="75438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lden Horde (Tartar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58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of the khanates or grandson of Genghis Khan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tu Kh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dvanced far into eastern Europe and established in 1251 the rule of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olden Hor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Russi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result, Russia experienced a cultural decay and isolation from Europe  - reason for why Russia is part of Asia during Middle 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m54-03"/>
          <p:cNvPicPr/>
          <p:nvPr/>
        </p:nvPicPr>
        <p:blipFill>
          <a:blip r:embed="rId1"/>
          <a:stretch/>
        </p:blipFill>
        <p:spPr>
          <a:xfrm>
            <a:off x="0" y="175248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orde1-b"/>
          <p:cNvPicPr/>
          <p:nvPr/>
        </p:nvPicPr>
        <p:blipFill>
          <a:blip r:embed="rId2"/>
          <a:stretch/>
        </p:blipFill>
        <p:spPr>
          <a:xfrm>
            <a:off x="6781680" y="228600"/>
            <a:ext cx="17989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Map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pan’s Kamikaz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274, 128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ed to go against Japan but horse archery not successful against islan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ording to myth twice Japan saved by 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kamikaz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divine winds or typho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ality – ships were flat bottom boats – not good for rough sea; also may have been sabotaged by Korean shipbuilders upset with Mongo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5" descr="mongol_kamikaze"/>
          <p:cNvPicPr/>
          <p:nvPr/>
        </p:nvPicPr>
        <p:blipFill>
          <a:blip r:embed="rId1"/>
          <a:stretch/>
        </p:blipFill>
        <p:spPr>
          <a:xfrm>
            <a:off x="5257800" y="1447920"/>
            <a:ext cx="3733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g 20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leadership of Genghis Khan, the use of the stirrup, and excellent horsemanship skills all contributed directly to t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) collapse of Silk Road tr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2) defeat of Tokugawa Jap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) beginning of European explo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) rise of the Mongol Emp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anuary 201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important impact of the Mongol expansion across Asia and Europe was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1) increased authority of the Kievan pri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2) rise in trade along the Silk Ro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3) introduction of Hinduism into Chinese cul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4) maritime exploration of the Arabian seaco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une 201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areas did the Mongols conquer and incorporate into their empir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) China, Russia, and Ira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2) Axum, Zimbabwe, and West Afr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) Spain, France, and Egy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) Japan, India, and eastern Euro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g 201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variety of reasons, groups have set out to conquer other regions or people using various methods of force. These groups include th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Mongo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Spanish, and the Ottoman. Their conquests have had an impact on both the conqueror and the conquer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a reason for the con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how the conquest was achie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an impact of the con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 Pract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hina, the Mongols broke with Chinese traditions 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bidding foreign merchants to enter the coun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the Confucian system of edu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ing civil service examin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sing foot-biding on their wom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ing foreign administrators to enter Chi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Image:On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d where Genghis was born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350532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ongolian Yu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 Pract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ngo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.  succeeded in their attempt to conquer Jap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.  facilitated trade along the Silk Roa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.  constructed cities and irrigation systems during their conquest of P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.  had little respect for craftsmen and their wor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.  established no communications with western Europ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 Pract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ngol Empire was divided into four Khanates, which governed all of the following lands EX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.  Ch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.  Ko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.  Rus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. Per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  Jap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ian Ar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538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ength based on strategy &amp; mobility (horse-back archers – each soldier had 2 up to 16 horses – could swap – had the technology of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stirru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– small units (10) to be able to deploy in ambushes and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feint-retre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Mongolattack"/>
          <p:cNvPicPr/>
          <p:nvPr/>
        </p:nvPicPr>
        <p:blipFill>
          <a:blip r:embed="rId1"/>
          <a:stretch/>
        </p:blipFill>
        <p:spPr>
          <a:xfrm>
            <a:off x="5105520" y="685800"/>
            <a:ext cx="371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ghis Khan’s Empi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Genghis Khan's Empire, 1227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6781680" y="3200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1295280"/>
            <a:ext cx="3048120" cy="17528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death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ghis stopp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out attack on Eur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7"/>
          <p:cNvSpPr/>
          <p:nvPr/>
        </p:nvSpPr>
        <p:spPr>
          <a:xfrm rot="19951200">
            <a:off x="326520" y="5036760"/>
            <a:ext cx="2133720" cy="463680"/>
          </a:xfrm>
          <a:prstGeom prst="rightArrow">
            <a:avLst>
              <a:gd name="adj1" fmla="val 50000"/>
              <a:gd name="adj2" fmla="val 11504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eated in 125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809880" y="5105520"/>
            <a:ext cx="4876920" cy="106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pital at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Karakor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but prohibited fellow Mongols from sedentary occupations or living in cities – but under successors will settle into administrative posi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eatment of Conquered Territory by Mongo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fear – would decimate tow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one came out in open – would be saved; if tried to hide – would be kill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town where son-in-law killed – he had it destroyed to the ground so that the land could now be plow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ap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919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fter Death of Gengh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vided among heirs –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khan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gan a movement against Persia &amp; Chi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rned gunpowder from China (now handguns &amp; canno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ublai Khan – 1279-129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386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ndson of Gengh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red Song Dynasty established new dynasty –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Yua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good at adapting to Chinese politics – except highest positions reserved for Mongo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Marco Pol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isits China and was impressed by court of Kublai Khan.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Pax Mongo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nded into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Marco_Polo"/>
          <p:cNvPicPr/>
          <p:nvPr/>
        </p:nvPicPr>
        <p:blipFill>
          <a:blip r:embed="rId1"/>
          <a:stretch/>
        </p:blipFill>
        <p:spPr>
          <a:xfrm>
            <a:off x="5192640" y="1981080"/>
            <a:ext cx="3924360" cy="3554640"/>
          </a:xfrm>
          <a:prstGeom prst="rect">
            <a:avLst/>
          </a:prstGeom>
          <a:ln w="0">
            <a:noFill/>
          </a:ln>
        </p:spPr>
      </p:pic>
      <p:sp>
        <p:nvSpPr>
          <p:cNvPr id="113" name="5-Point Star 1"/>
          <p:cNvSpPr/>
          <p:nvPr/>
        </p:nvSpPr>
        <p:spPr>
          <a:xfrm>
            <a:off x="152280" y="4800600"/>
            <a:ext cx="685800" cy="457200"/>
          </a:xfrm>
          <a:custGeom>
            <a:avLst/>
            <a:gdLst/>
            <a:ahLst/>
            <a:rect l="l" t="t" r="r" b="b"/>
            <a:pathLst>
              <a:path w="685800" h="457200">
                <a:moveTo>
                  <a:pt x="1" y="174634"/>
                </a:moveTo>
                <a:lnTo>
                  <a:pt x="261954" y="174636"/>
                </a:lnTo>
                <a:lnTo>
                  <a:pt x="342900" y="0"/>
                </a:lnTo>
                <a:lnTo>
                  <a:pt x="423846" y="174636"/>
                </a:lnTo>
                <a:lnTo>
                  <a:pt x="685799" y="174634"/>
                </a:lnTo>
                <a:lnTo>
                  <a:pt x="473874" y="282564"/>
                </a:lnTo>
                <a:lnTo>
                  <a:pt x="554823" y="457199"/>
                </a:lnTo>
                <a:lnTo>
                  <a:pt x="342900" y="349267"/>
                </a:lnTo>
                <a:lnTo>
                  <a:pt x="130977" y="457199"/>
                </a:lnTo>
                <a:lnTo>
                  <a:pt x="211926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s in Ch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609480" y="1828800"/>
            <a:ext cx="8153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 – favored Mongols and allied Islamic peoples over Chinese (even gave administrative jobs to foreign merchants like Marco Polo), did not like Confucianism so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no Civil Service Exa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scholar-gentry very angry over th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Distinctions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marriage prohibit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inese forbidden to learn Mongol script – but Kublai was fascinated with Chinese court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gol Women – refused to practice foot binding, some continued to hunt and fight in war – but Mongol stay in China too short to influence China’s long-standing Confucian treatment of wo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n – although traditionally animist, Khans very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ested in other religion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uddhism, Christianity, Daoist and Muslims all in Khan’s cour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mch12_07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228600" y="484632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der Pax Mongolia - Trade flourished, and travelers such a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bn Battuta and Marco Pol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ere able to write remarkable accounts of the lands they visited, but led to  bubonic plague, also opened up. Th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Black Dea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iginating in Central Asia, was one of a succession of plagues that followed the trade routes by land and sea, decimating parts of Europe and Chin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6:09:21Z</dcterms:created>
  <dc:creator>Lyons, Anne</dc:creator>
  <dc:description/>
  <dc:language>en-US</dc:language>
  <cp:lastModifiedBy>Windows User</cp:lastModifiedBy>
  <dcterms:modified xsi:type="dcterms:W3CDTF">2017-03-07T12:04:25Z</dcterms:modified>
  <cp:revision>117</cp:revision>
  <dc:subject/>
  <dc:title>The Asian World 400-1500</dc:title>
</cp:coreProperties>
</file>